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7D8E-F201-4845-A66F-72F458EE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5D2-A371-4C50-816F-D90C8638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0DE-EF0E-4DC5-B0FD-7546DEAC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895-EEB3-4D0D-B12F-35A98834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582C-7136-4718-92A5-8FAFE1AD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EC5D-97BA-4D32-A2C2-FCC09791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B334-A2C5-4E6A-883F-2352CEFF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C8FF-2E2D-4CAC-89C7-81184067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09E4-4C4A-4530-B195-B27A1ED3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4468-E177-4C14-80DB-E3C16B1E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6E72-B5D7-4630-BB8F-51D91374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16CA-0A19-40CF-8BC1-2332E736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479E-DA57-440C-ADBB-15135567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6C23-82A8-4CA7-ACE4-AAFC1EA4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88C3-A043-46FC-B635-D591DBF4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EA98-8E3F-48E5-A710-E6A408C0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8FB7-CCCC-4C78-A6C0-EEB2BFCC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FA1-345F-4231-BF65-E047DFC3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DA2-39F1-4AA0-AD14-7FF70576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598-C4BE-4553-8E13-DB12F06A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90C-D428-4749-8DFB-F2D126F4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F60-6B71-4A5F-B84D-754AA69C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1E2-5E7C-4E46-BAF7-AA1AF721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4A70-933C-4DE4-8667-9664E996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437EE-B6E7-46EA-8678-65C331AA181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24FFC-D7A2-49F4-8CB5-D03C0A0B35A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A7074-16B3-48F5-BE98-FA856255608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16640-63A9-46D9-BDBE-5D1B5836CBF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l Phyla Cha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Templat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Miscellaneous: 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-Symmetry       -Body cavity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-Number of germ cell layer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822960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ody Support/Movemen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rvous Contro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produ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iges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ircu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cre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Respiration</a:t>
            </a:r>
            <a:br>
              <a:rPr sz="4100"/>
            </a:b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23:05:36Z</dcterms:created>
  <dc:creator>Keith or Sherri Holmgren</dc:creator>
  <dc:description/>
  <dc:language>en-US</dc:language>
  <cp:lastModifiedBy>Keith or Sherri Holmgren</cp:lastModifiedBy>
  <dcterms:modified xsi:type="dcterms:W3CDTF">2012-05-11T23:11:30Z</dcterms:modified>
  <cp:revision>1</cp:revision>
  <dc:subject/>
  <dc:title>Animal Phyla Chart</dc:title>
</cp:coreProperties>
</file>